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F56-D05D-43F4-9B63-1B603185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B7E-1FF1-4055-BA2C-C11B1CFD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BB9-E77E-43A9-9A4B-9DDD04CD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4E1-3E82-4375-9F4F-D380EC46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DD2-A27F-49A3-9955-AD9924C3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9F6-FA7A-44B3-ABDC-B53F574D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742-ADF5-47C7-A1EA-336F3532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9BD-34B9-47AB-8917-FA1E95E5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C3B-1FC9-4B40-B621-56E22A6F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463-73D2-41D2-B2DD-980B8090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42E-B5E1-4D80-AF7C-D7FEAFE1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5FF-59E8-426E-A655-DDE93E81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4B23-A226-430C-A98E-4AD4A3D494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4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Что? Где? Ког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755640" y="987480"/>
            <a:ext cx="777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итый педагог XVII века Ян Амос Коменский был первым, кто, идя в ногу с техническим прогрессом, стал использовать это в учебниках, причем по всем предметам, ибо это, по его — совершенно обоснованному — мнению, сильно облегчает усвоение и понимание любого учебного материала. А позже использование этого и вовсе вошло в историю как «золотое правило дидактики». О чем идет ре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ый педагог  А.С. Макаренко описывает историю одного сердобольного мальчика. Он очень переживал за свою игрушку, потому что ему казалось, что она никогда не может уснуть. Заботясь о ее здоровье, мальчик периодически клал ей на голову тяжелые предметы. Назовите, что это за игру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ий Жуковский сравнивал воспитание детей с написанием поэтического произведения. Такое произведение он называл сочетанием из двух слов, начинающихся на одну и ту же букву. Напишите это словосочетание, ставшее в тридцатых годах двадцатого века названием знаменитой книги по педагог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ревнем Риме — учитель, обучающий детей азам языкознания — грамматик, учитель чтения — литератор, раб, сопровождающий детей в школу и из школы — педагог. А как в Древнем Риме называли учителя арифме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ередине 70-х молодой советский учитель позволил себе вольность в своем внешнем виде. Точнее  - отрастил бородку.  В результате чего заслужил выговор от начальства. «На кого ты равняешься! — кричал директор. — На аполитичных стиляг?». «Нет, на него», — невозмутимо ответил учитель и указал на портрет, висящий на стене. Ч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несколько столетий назад появился танец «вальс», многие заметили, что он был гораздо проще популярных тогда танцев, т.к. состоял из очень простых и легко запоминающихся движений. Новый танец стали осуждать не только по моральным соображениям. Первыми, кто выступили против, стали, как ни странно, учителя танцев.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85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о, что пророка Моисея иудеи именуют Моше Рабейну, то есть Учитель, Наставник. А юморист Михаил Векслер выразил это в афоризме: «Моисей — всем евреям ...!». Закончите этот афоризм одним иностранным, но далеким от Израиля, словом, синонимом слова «учител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857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ители особой субкультуры хиппи или стиляг, распространённой в советское время, любили переделывать привычные нам имена и фамилии на иностранный манер. Так, например, Анна могла стать Энн, а Борис – Боб. Кроме того, они стали называть фамилии известных людей – а именно, Владимира Ильина Ленина и педагога Антона Семеновича Макаренко – фамилиями двух чрезвычайно известных в то время англичан. Нам неизвестно, встречались ли когда-то Макаренко и Ленин. Чего нельзя сказать об этих англичанах, ведь они вместе играли в одной популярной группе. Назовите эту групп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987480"/>
            <a:ext cx="5327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вами изображение купюры в тысячу итальянских лир, на которой находится ребенок. На обратной стороне данной купюры изображена женщина, выдающийся педагог, единственная женщина, включенная в 1988 году ЮНЕСКО в список из четырех человек, определивших способы педагогического мышления в XX веке. В соответствии с её принципом, в центре педагогической системы, как и на изображении купюры, находится ребенок. Назовите фамилию женщ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5292720" y="1779480"/>
            <a:ext cx="3714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987480"/>
            <a:ext cx="8928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прос состоит из двух истор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В заставке американского мультсериала «Симпсоны» демонстрируется очень популярное в западных школах наказание – а именно написание оной и той же фразы на доске много раз, чтобы лучше ее запомн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Бянг — это блюдо из лапши, подаваемое в китайской провинции Шэньси. _______ Бянг состоит из 56 компонентов и считается одним из самых сложных, поэтому педагог Ванг СижУн использовал его для наказ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в, как связаны эти две истории, напишите, какое слово мы пропустили в предыдущем предложении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18:18:37Z</dcterms:modified>
  <cp:revision>135</cp:revision>
  <dc:subject/>
  <dc:title>Слайд 1</dc:title>
</cp:coreProperties>
</file>